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ED82-BFB6-4ED0-957D-61670EB0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FD1-8917-466D-A1CA-306B1EA5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7DE-0C09-44E8-AE60-B8DAF6AB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66D-1EC7-4259-B492-4D945ECD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D39-B6E8-4FCC-AFFF-379F1A88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7326-8984-4240-B4CA-85E1D7B5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BB7-2700-4455-B93C-3802ED99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523-E474-4821-9E81-AB0D645B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8A7E-2C9C-4993-87A2-5823A15D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6B1-F06B-4BBC-9E4D-A98FC5B2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F3F-A7D1-4403-9434-32A5E34A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D8D-FBDC-489F-8F59-E919EC0C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4F98-C5B3-4A38-BC55-BA15C218A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7058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4883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5640" y="622440"/>
            <a:ext cx="75614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9:18:54Z</dcterms:created>
  <dc:creator>01690112</dc:creator>
  <dc:description/>
  <dc:language>en-US</dc:language>
  <cp:lastModifiedBy>01690112</cp:lastModifiedBy>
  <dcterms:modified xsi:type="dcterms:W3CDTF">2009-07-21T09:19:34Z</dcterms:modified>
  <cp:revision>1</cp:revision>
  <dc:subject/>
  <dc:title>Slide 1</dc:title>
</cp:coreProperties>
</file>